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0.jpeg" ContentType="image/jpeg"/>
  <Override PartName="/ppt/media/image31.jpeg" ContentType="image/jpeg"/>
  <Override PartName="/ppt/media/image37.jpeg" ContentType="image/jpeg"/>
  <Override PartName="/ppt/media/image8.jpeg" ContentType="image/jpeg"/>
  <Override PartName="/ppt/media/image39.jpeg" ContentType="image/jpeg"/>
  <Override PartName="/ppt/media/image5.jpeg" ContentType="image/jpeg"/>
  <Override PartName="/ppt/media/image26.jpeg" ContentType="image/jpeg"/>
  <Override PartName="/ppt/media/image40.jpeg" ContentType="image/jpeg"/>
  <Override PartName="/ppt/media/image13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35.jpeg" ContentType="image/jpe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11CB-34DA-48BC-88A8-FEE80F1ED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E61-311B-41BB-AC1D-1F0E2B11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71D6-4FFA-4A7E-8BFA-E0EC2ED2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6F0F-BD62-46C2-B65B-2F9FC13A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6CDF-FC34-48D9-9EBA-809AB67A7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C3328-A008-47B4-ADE3-7E5FE7E31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39FFE-8224-47AA-962E-AD954F0D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06365-5C35-4B92-9512-FE7D7B6A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564D-365F-4486-A7DF-81952B6D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F9F9-AB4D-4423-95A7-CA0F979AF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B2C09-0C12-4971-84B1-3BB919FD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6974-DD41-457A-8F7D-2D04EC77E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554C-A241-4218-ACEE-9A8234FC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E6BD-597A-45E9-816C-91F9373A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DE87-67DD-4B14-84CA-B15C2913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5586-6D9E-49F6-956B-3BA175AA4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45D01-A121-4AC3-9BCB-74143A1C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4E1C-07E3-48E1-A1EB-3F569B504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83DC1-72B8-4BF5-A837-C9D858F4D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57429-D455-43BB-9267-6606DD15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8AE1F-2487-4D5D-A344-7A370AD88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1F1ED-5D36-4041-8F94-A5705519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9A62-A3C0-4F99-9DE1-68A0E91B8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82E0F-6E9B-4E0E-9632-BF22DAFF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C2C097-F16F-4536-8E2B-060C51D5F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C62A7-E003-4BD7-B382-1AFA8E06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3D785-23B7-47A0-957E-57390548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8BF9C-C834-40D4-A91E-AE2597F9A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4E4BD-11B5-49DC-B3DA-DDE9BD886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BC58D-27A8-436D-BF3D-D4B316EB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1EA82-A9F7-4FC7-B75C-703B1494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2F3FCE-43C1-4679-BC2F-31A80218A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7A0D8-7796-41D3-B196-ACA82323A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CA99-E56A-4AA7-8AF0-A7D9C7071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926A8-DD75-44CA-8529-3AD6AD30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47516-131A-4C66-85AC-15645B38D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2F2F74-220C-4555-A4E8-8CFB89E0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6EC92-56B4-401E-A0D0-CC708E83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40121-27EC-49D0-8CBF-F3F6A015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9EEE8-13FB-4DC1-B94D-88C8879E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28B647-2F48-4231-A533-29E2DF4B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180F8-9D79-43A6-BEAA-DE9481A9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85A0-0285-42AB-97E1-102BE099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8EE8D-AB97-473A-B735-D3C7D58F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1FB8-CD94-4248-ADBC-61EAC0456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7887-4731-4792-A2E5-4E1BE9EC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CF7E-E30A-484C-BF2C-77AD6CA1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71B2-9601-40A0-8A0C-A93578B0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2A19-9543-457D-BF04-12655B816E2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0B0B7-4810-426E-954F-BA8911F68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B96CA-E2D4-474A-91BF-4D1AF3B70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766B-6ECC-4B49-B3C5-9EB2899B91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14200" y="1714680"/>
            <a:ext cx="8929800" cy="19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ДЕНТОГЕНЕ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ИНФЕКЦИЈЕ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КОШТАНИХ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ТКИВА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ЛИЦА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И</a:t>
            </a:r>
            <a:r>
              <a:rPr b="1" lang="sr-Latn-CS" sz="4000" spc="-1" strike="noStrike">
                <a:solidFill>
                  <a:srgbClr val="002060"/>
                </a:solidFill>
                <a:latin typeface="Cambria"/>
              </a:rPr>
              <a:t> </a:t>
            </a:r>
            <a:r>
              <a:rPr b="1" lang="sr-CS" sz="4000" spc="-1" strike="noStrike">
                <a:solidFill>
                  <a:srgbClr val="002060"/>
                </a:solidFill>
                <a:latin typeface="Cambria"/>
              </a:rPr>
              <a:t>ВИЛИЦ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415880" y="53308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Cambria"/>
              </a:rPr>
              <a:t>Доц др Слободан Лончаре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3" descr="memo grb copy"/>
          <p:cNvPicPr/>
          <p:nvPr/>
        </p:nvPicPr>
        <p:blipFill>
          <a:blip r:embed="rId2"/>
          <a:srcRect l="47095" t="0" r="41659" b="0"/>
          <a:stretch/>
        </p:blipFill>
        <p:spPr>
          <a:xfrm>
            <a:off x="762120" y="457200"/>
            <a:ext cx="653760" cy="1066680"/>
          </a:xfrm>
          <a:prstGeom prst="rect">
            <a:avLst/>
          </a:prstGeom>
          <a:ln w="0">
            <a:noFill/>
          </a:ln>
        </p:spPr>
      </p:pic>
      <p:sp>
        <p:nvSpPr>
          <p:cNvPr id="167" name="TextBox 8"/>
          <p:cNvSpPr/>
          <p:nvPr/>
        </p:nvSpPr>
        <p:spPr>
          <a:xfrm>
            <a:off x="971640" y="4149720"/>
            <a:ext cx="7086600" cy="5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Назив предмета: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МАКСИЛОФАЦИЈАЛНА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ХИРУРГ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sr-Latn-CS" sz="1400" spc="-1" strike="noStrike">
                <a:solidFill>
                  <a:srgbClr val="ffffff"/>
                </a:solidFill>
                <a:latin typeface="Cambria"/>
              </a:rPr>
              <a:t>Предавање бр. 0</a:t>
            </a:r>
            <a:r>
              <a:rPr b="0" lang="sr-CS" sz="1400" spc="-1" strike="noStrike">
                <a:solidFill>
                  <a:srgbClr val="ffffff"/>
                </a:solidFill>
                <a:latin typeface="Cambria"/>
              </a:rPr>
              <a:t>3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	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Час</a:t>
            </a:r>
            <a:r>
              <a:rPr b="1" lang="sr-Latn-CS" sz="1400" spc="-1" strike="noStrike">
                <a:solidFill>
                  <a:srgbClr val="ffffff"/>
                </a:solidFill>
                <a:latin typeface="Cambria"/>
              </a:rPr>
              <a:t>: </a:t>
            </a:r>
            <a:r>
              <a:rPr b="1" lang="sr-CS" sz="1400" spc="-1" strike="noStrike">
                <a:solidFill>
                  <a:srgbClr val="ffffff"/>
                </a:solidFill>
                <a:latin typeface="Cambria"/>
              </a:rPr>
              <a:t> 0</a:t>
            </a:r>
            <a:r>
              <a:rPr b="1" lang="en-US" sz="1400" spc="-1" strike="noStrike">
                <a:solidFill>
                  <a:srgbClr val="ffffff"/>
                </a:solidFill>
                <a:latin typeface="Cambri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TextBox 9" descr=""/>
          <p:cNvPicPr/>
          <p:nvPr/>
        </p:nvPicPr>
        <p:blipFill>
          <a:blip r:embed="rId3"/>
          <a:stretch/>
        </p:blipFill>
        <p:spPr>
          <a:xfrm>
            <a:off x="1504800" y="560520"/>
            <a:ext cx="554832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ПОДЕЛ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ел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ној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ној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узроковач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пецифи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цифичне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ед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аз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у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е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дакти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ч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ште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куд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лаз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онич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овлад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ла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рвени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сту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ИМАР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ич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ољ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гзацерб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аришта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zoom_Capitolo__6"/>
          <p:cNvPicPr/>
          <p:nvPr/>
        </p:nvPicPr>
        <p:blipFill>
          <a:blip r:embed="rId2"/>
          <a:stretch/>
        </p:blipFill>
        <p:spPr>
          <a:xfrm>
            <a:off x="1138320" y="3643200"/>
            <a:ext cx="2971800" cy="255744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500178-fx9"/>
          <p:cNvPicPr/>
          <p:nvPr/>
        </p:nvPicPr>
        <p:blipFill>
          <a:blip r:embed="rId3"/>
          <a:stretch/>
        </p:blipFill>
        <p:spPr>
          <a:xfrm>
            <a:off x="4643280" y="3643200"/>
            <a:ext cx="31244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ГНОЈ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ној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у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зо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стран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а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њ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орпциј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овлад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сорптив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литич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актур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знатн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ара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ли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ун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град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ли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дел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ЦИРКУМСКРИП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циркумскрипт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цидиви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л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т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ис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ене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теолиз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ло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ак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л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генерацијск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ћ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лиг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лтерације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5" descr="fig%201"/>
          <p:cNvPicPr/>
          <p:nvPr/>
        </p:nvPicPr>
        <p:blipFill>
          <a:blip r:embed="rId2"/>
          <a:stretch/>
        </p:blipFill>
        <p:spPr>
          <a:xfrm>
            <a:off x="5435640" y="4441680"/>
            <a:ext cx="306072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7499520" cy="37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ематог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напредовал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кол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ариш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ћ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узрокова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ек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ич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90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5" descr="Subperiosteal%2Babscess%2Bwith%2Blingual%2Blocalization%2Bclinical%2Bphotograph"/>
          <p:cNvPicPr/>
          <p:nvPr/>
        </p:nvPicPr>
        <p:blipFill>
          <a:blip r:embed="rId2"/>
          <a:srcRect l="0" t="0" r="0" b="7142"/>
          <a:stretch/>
        </p:blipFill>
        <p:spPr>
          <a:xfrm>
            <a:off x="5357880" y="4786200"/>
            <a:ext cx="270828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ериапик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6760" y="1643040"/>
            <a:ext cx="471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апик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с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бр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абдев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ганиза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и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шт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т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пост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жариш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Tooth_abscess_clip_image"/>
          <p:cNvPicPr/>
          <p:nvPr/>
        </p:nvPicPr>
        <p:blipFill>
          <a:blip r:embed="rId2"/>
          <a:stretch/>
        </p:blipFill>
        <p:spPr>
          <a:xfrm>
            <a:off x="5364000" y="3573360"/>
            <a:ext cx="3240360" cy="2889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Abces_parulique"/>
          <p:cNvPicPr/>
          <p:nvPr/>
        </p:nvPicPr>
        <p:blipFill>
          <a:blip r:embed="rId3"/>
          <a:stretch/>
        </p:blipFill>
        <p:spPr>
          <a:xfrm>
            <a:off x="5357880" y="1214280"/>
            <a:ext cx="3276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1680" y="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ериапикал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42560" y="1356840"/>
            <a:ext cx="5000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уш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и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рулент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узроковач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ом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дара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тетс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оптерећ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ацербације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о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у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ханичк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т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внотеж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лед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6" descr="figure_9"/>
          <p:cNvPicPr/>
          <p:nvPr/>
        </p:nvPicPr>
        <p:blipFill>
          <a:blip r:embed="rId2"/>
          <a:stretch/>
        </p:blipFill>
        <p:spPr>
          <a:xfrm>
            <a:off x="5429160" y="1571760"/>
            <a:ext cx="3343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псцес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ци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4857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ст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периостал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у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коље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ној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метњ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р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вара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тикал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квест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хр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ежана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гађ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мандибу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fossa canina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000" spc="-1" strike="noStrike">
                <a:solidFill>
                  <a:srgbClr val="000000"/>
                </a:solidFill>
                <a:latin typeface="Arial"/>
              </a:rPr>
              <a:t>angulus mandibulae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abscess-bottom-chin"/>
          <p:cNvPicPr/>
          <p:nvPr/>
        </p:nvPicPr>
        <p:blipFill>
          <a:blip r:embed="rId2"/>
          <a:stretch/>
        </p:blipFill>
        <p:spPr>
          <a:xfrm>
            <a:off x="5214960" y="2143080"/>
            <a:ext cx="364320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одонтоге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зро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5429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одонтог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нка 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си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теће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ематог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ђ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лом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већ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о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зна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Mandibular+fractures"/>
          <p:cNvPicPr/>
          <p:nvPr/>
        </p:nvPicPr>
        <p:blipFill>
          <a:blip r:embed="rId2"/>
          <a:stretch/>
        </p:blipFill>
        <p:spPr>
          <a:xfrm>
            <a:off x="5857920" y="221472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вред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вил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14200" y="1499760"/>
            <a:ext cx="540072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у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адеква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ератив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е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ре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рурш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лађ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овља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том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ормит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5" descr="Ipicturemandibularfracture"/>
          <p:cNvPicPr/>
          <p:nvPr/>
        </p:nvPicPr>
        <p:blipFill>
          <a:blip r:embed="rId2"/>
          <a:stretch/>
        </p:blipFill>
        <p:spPr>
          <a:xfrm>
            <a:off x="5857920" y="1643040"/>
            <a:ext cx="293040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ANd9GcQdbq5QLN6TXBab7O3-2DWBwN4gN5pEFQUAma9C_CwqYg-ZU9OSAbG6mg"/>
          <p:cNvPicPr/>
          <p:nvPr/>
        </p:nvPicPr>
        <p:blipFill>
          <a:blip r:embed="rId3"/>
          <a:stretch/>
        </p:blipFill>
        <p:spPr>
          <a:xfrm>
            <a:off x="5857920" y="4071960"/>
            <a:ext cx="2962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ДЕНТОГЕНЕ</a:t>
            </a: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40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13840" y="164304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ентогене инфекције се могу поделити н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. Апсцесе</a:t>
            </a:r>
            <a:br>
              <a:rPr sz="3200"/>
            </a:b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2. Флегмо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Osteosarcoma+of+the+upper+jaw%252C+presenting+as+a+hard+swelling"/>
          <p:cNvPicPr/>
          <p:nvPr/>
        </p:nvPicPr>
        <p:blipFill>
          <a:blip r:embed="rId2"/>
          <a:stretch/>
        </p:blipFill>
        <p:spPr>
          <a:xfrm>
            <a:off x="4000680" y="2714760"/>
            <a:ext cx="46576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НАСТАНАК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6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јатроге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вре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13880" y="1643040"/>
            <a:ext cx="785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4600" indent="-1746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трог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зок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обиј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оматолош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т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аз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н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рочи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ас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ре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рер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убо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естез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врд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пц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естетич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ве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л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УЗРОЧНИЦ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507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олу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reptococcus</a:t>
            </a:r>
            <a:r>
              <a:rPr b="0" i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re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60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чаје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ас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рептоко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чни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напредова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честалос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атив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актеријам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р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гатив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узрокова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шовит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нфекцији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ДРАСЛИ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2920" y="1600200"/>
            <a:ext cx="492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асл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онтог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витализ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ика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итис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вори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толош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9" descr="fistula2"/>
          <p:cNvPicPr/>
          <p:nvPr/>
        </p:nvPicPr>
        <p:blipFill>
          <a:blip r:embed="rId2"/>
          <a:stretch/>
        </p:blipFill>
        <p:spPr>
          <a:xfrm>
            <a:off x="5257800" y="1676520"/>
            <a:ext cx="2743200" cy="2060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parulisTitle"/>
          <p:cNvPicPr/>
          <p:nvPr/>
        </p:nvPicPr>
        <p:blipFill>
          <a:blip r:embed="rId3"/>
          <a:stretch/>
        </p:blipFill>
        <p:spPr>
          <a:xfrm>
            <a:off x="5105520" y="3962520"/>
            <a:ext cx="320040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окализ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corpus mandibul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angulu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ram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Latn-RS" sz="2800" spc="-1" strike="noStrike">
                <a:solidFill>
                  <a:srgbClr val="000000"/>
                </a:solidFill>
                <a:latin typeface="Arial"/>
              </a:rPr>
              <a:t>mandibula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ђ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хваћ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чн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ом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5" descr="large"/>
          <p:cNvPicPr/>
          <p:nvPr/>
        </p:nvPicPr>
        <p:blipFill>
          <a:blip r:embed="rId2"/>
          <a:stretch/>
        </p:blipFill>
        <p:spPr>
          <a:xfrm>
            <a:off x="5572080" y="3714840"/>
            <a:ext cx="2124000" cy="252396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ANd9GcR7YKgPMJJfCMC03NDhwHPJ1llkkN20U9DAGtxcF1wCMJr4HdoM"/>
          <p:cNvPicPr/>
          <p:nvPr/>
        </p:nvPicPr>
        <p:blipFill>
          <a:blip r:embed="rId3"/>
          <a:stretch/>
        </p:blipFill>
        <p:spPr>
          <a:xfrm>
            <a:off x="1285920" y="3857760"/>
            <a:ext cx="3352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арактерис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ављ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азвати до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шко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ов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чн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љи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куси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риоз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нтал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им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каз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апикал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90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нтог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кл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в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шко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би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тензите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чун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ш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ир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gr3"/>
          <p:cNvPicPr/>
          <p:nvPr/>
        </p:nvPicPr>
        <p:blipFill>
          <a:blip r:embed="rId2"/>
          <a:stretch/>
        </p:blipFill>
        <p:spPr>
          <a:xfrm>
            <a:off x="609480" y="4343400"/>
            <a:ext cx="4343400" cy="2133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33"/>
          <p:cNvPicPr/>
          <p:nvPr/>
        </p:nvPicPr>
        <p:blipFill>
          <a:blip r:embed="rId3"/>
          <a:stretch/>
        </p:blipFill>
        <p:spPr>
          <a:xfrm>
            <a:off x="5410080" y="4419720"/>
            <a:ext cx="274320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О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4726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ко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еп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гионал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мф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лез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ћ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м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горш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иш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мпера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з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л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цит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брз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димент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лаксал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етит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ебљ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ле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ва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овља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бсце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исту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сед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ж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28400" y="1357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инич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јагноз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тпо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линичких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траг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мена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д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мцима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ч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оч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ш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град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0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органс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ли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д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ЈАГНО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врђи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лож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акти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отоп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ethylen-technetium-99 phosphon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актив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дир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ркул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н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бласт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м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кр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ћн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48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ас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г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ча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тив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бла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дљив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кенер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6" descr="Osteonecrosis_of_the_jaw"/>
          <p:cNvPicPr/>
          <p:nvPr/>
        </p:nvPicPr>
        <p:blipFill>
          <a:blip r:embed="rId2"/>
          <a:stretch/>
        </p:blipFill>
        <p:spPr>
          <a:xfrm>
            <a:off x="1785960" y="4357800"/>
            <a:ext cx="3189240" cy="224460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8" descr="car10429_fm-2"/>
          <p:cNvPicPr/>
          <p:nvPr/>
        </p:nvPicPr>
        <p:blipFill>
          <a:blip r:embed="rId3"/>
          <a:stretch/>
        </p:blipFill>
        <p:spPr>
          <a:xfrm>
            <a:off x="5786280" y="4143240"/>
            <a:ext cx="210528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14200" y="1714320"/>
            <a:ext cx="521496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он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бер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суст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неуматизова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упљи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у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о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ан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пра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звиј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онгио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 бити узрок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вита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њег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по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парат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7" descr="JInterdiscipDentistry_2011_1_1_41_77205_f4"/>
          <p:cNvPicPr/>
          <p:nvPr/>
        </p:nvPicPr>
        <p:blipFill>
          <a:blip r:embed="rId2"/>
          <a:stretch/>
        </p:blipFill>
        <p:spPr>
          <a:xfrm>
            <a:off x="5638680" y="3962520"/>
            <a:ext cx="2438640" cy="22860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f7c8363a14"/>
          <p:cNvPicPr/>
          <p:nvPr/>
        </p:nvPicPr>
        <p:blipFill>
          <a:blip r:embed="rId3"/>
          <a:stretch/>
        </p:blipFill>
        <p:spPr>
          <a:xfrm>
            <a:off x="5638680" y="1447920"/>
            <a:ext cx="2362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ГОР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ВИЛ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472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имптом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арактеристичн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вестр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нигн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. infraorbitalis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е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ч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п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генератив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ћ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аб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г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клаћ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чврст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нат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убит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и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н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о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уби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ч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овани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ста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атрам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ж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тегну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рв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ле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фуз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већ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склаће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етљи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кусиј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ко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јављу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мукоз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бсцес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ст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стибулар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врд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п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ffffff"/>
                </a:solidFill>
                <a:latin typeface="Arial"/>
              </a:rPr>
              <a:t>АПСЦ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це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ној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вој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ко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драв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маркацион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ародонтал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ерикоронар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" descr="60490"/>
          <p:cNvPicPr/>
          <p:nvPr/>
        </p:nvPicPr>
        <p:blipFill>
          <a:blip r:embed="rId2"/>
          <a:stretch/>
        </p:blipFill>
        <p:spPr>
          <a:xfrm>
            <a:off x="5181480" y="1828800"/>
            <a:ext cx="3200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нтибио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каментоз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в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дикаментоз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леч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дијуму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рап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њ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ентер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ор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ис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ј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њ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гр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дини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иц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г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њ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гр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ицим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о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кт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со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а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ЕЧЕЊ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АКУТНОГ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br>
              <a:rPr sz="32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хируршко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13840" y="1428840"/>
            <a:ext cx="4496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центр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лањ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остављ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ренаж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екстрак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рочн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ље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реча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рт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гућ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мар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постављ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поручу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кортик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бор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в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ето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кл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љашњ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ртек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ч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ротич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киретир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8" descr="2528951_eplasty08e45_fig3"/>
          <p:cNvPicPr/>
          <p:nvPr/>
        </p:nvPicPr>
        <p:blipFill>
          <a:blip r:embed="rId2"/>
          <a:stretch/>
        </p:blipFill>
        <p:spPr>
          <a:xfrm>
            <a:off x="4929120" y="1857240"/>
            <a:ext cx="37623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кундар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ђ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шћ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кас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гностиков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довољ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орм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-20170440" y="-23477400"/>
            <a:ext cx="2936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Može nastati kao sekundarna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8342280" y="-23477400"/>
            <a:ext cx="3942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a forma nakon akutnog osteomijelitisa ili da o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-20547360" y="-5722920"/>
            <a:ext cx="456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o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-12351600" y="-5722920"/>
            <a:ext cx="1430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tka ima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-4392000" y="-5722920"/>
            <a:ext cx="5167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n tok. Akutni osteomijelitis je danas mnogo redji, dok je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28720080" y="-5722920"/>
            <a:ext cx="973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i mn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-20546640" y="12031920"/>
            <a:ext cx="264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-13619160" y="12031920"/>
            <a:ext cx="48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š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-12054960" y="12031920"/>
            <a:ext cx="2969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i. Usled primene antibiotika, u slu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8744040" y="12031920"/>
            <a:ext cx="35352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ajevima kada je akutni osteomijelitis kasn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-20562120" y="29786400"/>
            <a:ext cx="61106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ijagnostikovan, ili kada se daju nedovoljne doze antibiotika, prelazi u hroni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26332920" y="29763360"/>
            <a:ext cx="951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ˇ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nu formu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8" descr="osteomyelitis1355190511294"/>
          <p:cNvPicPr/>
          <p:nvPr/>
        </p:nvPicPr>
        <p:blipFill>
          <a:blip r:embed="rId2"/>
          <a:stretch/>
        </p:blipFill>
        <p:spPr>
          <a:xfrm>
            <a:off x="1643040" y="4286160"/>
            <a:ext cx="5551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85480" y="1285560"/>
            <a:ext cx="864396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њ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тиј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ваће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д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дебља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склаћењ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еди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узокож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вид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еч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љу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лтип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стул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окализов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стибулар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веолар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вк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Picture6"/>
          <p:cNvPicPr/>
          <p:nvPr/>
        </p:nvPicPr>
        <p:blipFill>
          <a:blip r:embed="rId2"/>
          <a:stretch/>
        </p:blipFill>
        <p:spPr>
          <a:xfrm>
            <a:off x="838080" y="4419720"/>
            <a:ext cx="3200400" cy="21063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1048885-1092133-1909"/>
          <p:cNvPicPr/>
          <p:nvPr/>
        </p:nvPicPr>
        <p:blipFill>
          <a:blip r:embed="rId3"/>
          <a:stretch/>
        </p:blipFill>
        <p:spPr>
          <a:xfrm>
            <a:off x="4800600" y="4419720"/>
            <a:ext cx="32004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792972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рактеристи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вестрациј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вест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нифесту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сенч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ок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о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свет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ој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колине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ркумскрип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од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б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лањ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рмир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вест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рета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иог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анулацио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енаж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вентуа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ГНОЈ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клерозирајућ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ољењ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литератур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icc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ронич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ир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ти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плазиј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ЕГНОЈ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ХРОНИЧ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28400" y="1500120"/>
            <a:ext cx="8267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окал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зна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апикал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ћ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васход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нтоге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рек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ирају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ис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же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доосе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лиферативн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ћ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т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узроков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рулент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ктеријам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ЦИРКУМСКРИПТ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КЛЕРОЗИРАЈУЋ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71680" y="12859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ркумскрипт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ирајућ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с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на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ост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бјектив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гоб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кр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учај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ор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ч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он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мбр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чуван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клеро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ушкаст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ек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донт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мбр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познати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хваћен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фуз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дебљ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с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ФУЗ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КЛЕРОЗИРАЈУЋ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214200" y="1214280"/>
            <a:ext cx="87156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еж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лађ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скључ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о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ла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гулу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илекцио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хронич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ацерб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рактериш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зна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л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а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дељ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гзацерб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рвал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д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оли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сец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ражени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чи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лађ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о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ериостал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акције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овља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иметр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ћ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6" descr="fig1"/>
          <p:cNvPicPr/>
          <p:nvPr/>
        </p:nvPicPr>
        <p:blipFill>
          <a:blip r:embed="rId2"/>
          <a:stretch/>
        </p:blipFill>
        <p:spPr>
          <a:xfrm>
            <a:off x="4857840" y="4357800"/>
            <a:ext cx="2590560" cy="222228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8" descr="kyste-maxillaires"/>
          <p:cNvPicPr/>
          <p:nvPr/>
        </p:nvPicPr>
        <p:blipFill>
          <a:blip r:embed="rId3"/>
          <a:stretch/>
        </p:blipFill>
        <p:spPr>
          <a:xfrm>
            <a:off x="1500120" y="4357800"/>
            <a:ext cx="261936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ИФУЗН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КЛЕРОЗИРАЈУЋ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8572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ндг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им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ви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дију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иво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б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лађ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чет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ављ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скрет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усти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аз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ера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озици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ављ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гн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ри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цинтиграфиј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лањ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итич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жариш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корт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кл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покс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езбед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скулариз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рокомора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ФЛЕГМОН</a:t>
            </a:r>
            <a:r>
              <a:rPr b="1" lang="sr-RS" sz="36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легмона је један од облика акутног дифузног, пурулентног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запаљењ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је захвата све слојеве ткива и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орг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без јасно одређених граница између здравог и упаљеног ткива, по чему се разликује од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псце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који има јас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гран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ако се класична флегмона сматра инфекцијом без формирања апсцеса или гнојења и без улцерација, у клиничкој пракси, подела између флегмоне и апсцеса понекад није сасвим јасн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GARRE</a:t>
            </a:r>
            <a:r>
              <a:rPr b="1" i="1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i="1" lang="sr-CS" sz="1800" spc="-1" strike="noStrike">
                <a:solidFill>
                  <a:srgbClr val="ffffff"/>
                </a:solidFill>
                <a:latin typeface="Arial"/>
              </a:rPr>
              <a:t>ОВ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 ОСТЕОМИЈЕЛИТИ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95280" y="1413000"/>
            <a:ext cx="8429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паљењск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акциј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риост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ног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специфич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имулусе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варање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зрел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бпериосталн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зна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ртикал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о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arre</a:t>
            </a:r>
            <a:r>
              <a:rPr b="0" i="1" lang="sr-CS" sz="2200" spc="-1" strike="noStrike">
                <a:solidFill>
                  <a:srgbClr val="000000"/>
                </a:solidFill>
                <a:latin typeface="Arial"/>
              </a:rPr>
              <a:t>-о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егној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ронич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ифуз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паљењск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реакци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води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ериостал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дебљањ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убпериостал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хиперплазиј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клеротичних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хваћено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ки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оузроковач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значен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лаб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ирулентне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тафилококе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Јављ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чешћ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лечењу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мор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рв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уклонити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жариште</a:t>
            </a:r>
            <a:r>
              <a:rPr b="0" lang="sr-Latn-R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ДИО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-360" y="1071720"/>
            <a:ext cx="89298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г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с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шће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лиг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мор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уми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ц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бла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д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пил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уфицијен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ел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кроти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дина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у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нифест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ел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им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лож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и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-139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воцирајућ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кто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лаз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у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Osteonecrosis%20jaw"/>
          <p:cNvPicPr/>
          <p:nvPr/>
        </p:nvPicPr>
        <p:blipFill>
          <a:blip r:embed="rId2"/>
          <a:stretch/>
        </p:blipFill>
        <p:spPr>
          <a:xfrm>
            <a:off x="2214720" y="4500720"/>
            <a:ext cx="530532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ffff"/>
                </a:solidFill>
                <a:latin typeface="Arial"/>
              </a:rPr>
              <a:t>РАДИООСТЕОМИЈЕЛИТИ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6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важ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дузе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филактич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ђ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радионекроз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рх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адиолош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тран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ангреноз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донтални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штећењи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ап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0-14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н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тход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рачен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ши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е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рдинират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биотик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широк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ектр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6" descr="3707"/>
          <p:cNvPicPr/>
          <p:nvPr/>
        </p:nvPicPr>
        <p:blipFill>
          <a:blip r:embed="rId2"/>
          <a:stretch/>
        </p:blipFill>
        <p:spPr>
          <a:xfrm>
            <a:off x="5786280" y="2286000"/>
            <a:ext cx="31435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ЛИНИЈЕ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РЕЛ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85840" y="1000080"/>
            <a:ext cx="86104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паснос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стан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ор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узет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ог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мпликова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такт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љувач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творен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могућ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м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чет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фиц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рочито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нача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нос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рз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бриња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вре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пози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икса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рагмена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јсигур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пречавај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јав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н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о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циљ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бзи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страњи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зрок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кц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5" descr="fig07-radio-of-fract"/>
          <p:cNvPicPr/>
          <p:nvPr/>
        </p:nvPicPr>
        <p:blipFill>
          <a:blip r:embed="rId2"/>
          <a:stretch/>
        </p:blipFill>
        <p:spPr>
          <a:xfrm>
            <a:off x="4857840" y="4857840"/>
            <a:ext cx="2741400" cy="17809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ANd9GcTb85_jrzYRslTq8TLj3ypvv0iiMIvAOSI5P32OHp5aEgdfF1NX"/>
          <p:cNvPicPr/>
          <p:nvPr/>
        </p:nvPicPr>
        <p:blipFill>
          <a:blip r:embed="rId3"/>
          <a:stretch/>
        </p:blipFill>
        <p:spPr>
          <a:xfrm>
            <a:off x="1571760" y="4857840"/>
            <a:ext cx="29289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КОД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ДЕ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2560" y="1071360"/>
            <a:ext cx="871524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ојчад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на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латив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т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оље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т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фуз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граничен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сни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чет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ифуз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ор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ифесту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гл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емператур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озниц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пшт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ш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ањ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тет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ц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биј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им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хра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знемир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знемогла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ут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л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окализова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мус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ндибул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тају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а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глоб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вак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р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сок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тибиоти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тигл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ређе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центр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sr-Latn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ANd9GcQuM2eEHQXf3nIJ91VbPT-m3yxq2fO-cDIGlKQHWLQfVQsId-Pp"/>
          <p:cNvPicPr/>
          <p:nvPr/>
        </p:nvPicPr>
        <p:blipFill>
          <a:blip r:embed="rId2"/>
          <a:stretch/>
        </p:blipFill>
        <p:spPr>
          <a:xfrm>
            <a:off x="1928880" y="4626000"/>
            <a:ext cx="2274840" cy="1994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8" descr="flemingk"/>
          <p:cNvPicPr/>
          <p:nvPr/>
        </p:nvPicPr>
        <p:blipFill>
          <a:blip r:embed="rId3"/>
          <a:stretch/>
        </p:blipFill>
        <p:spPr>
          <a:xfrm>
            <a:off x="4857840" y="4572000"/>
            <a:ext cx="205740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ДЕНТОГЕН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ФЕКЦИЈЕ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КОШТАНИХ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ТКИВА</a:t>
            </a:r>
            <a:br>
              <a:rPr sz="2800"/>
            </a:b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СТЕОМИЈЕЛИТИ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2876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стављ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спе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ематог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т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сед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ив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њишт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чи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мптоматолог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могућа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лико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те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истопатолош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ла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еомијелити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гово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драж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љ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мер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исел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и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кундар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њиш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спев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ци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7120" y="1285560"/>
            <a:ext cx="8501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ра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ухваћ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рс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станц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јав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т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рамедулар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тис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нтр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ет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иркулациј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грај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о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даљ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ној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о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олкмано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Хаверзов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утрити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дов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л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њиш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литериш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птичк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омбозе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в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и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ремећа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ста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ркулац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лаз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реверзиби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штеће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ци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хваће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друч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Шупљи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нгиоз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аз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пуње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нојав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држај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ки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циркулац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умир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лов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станц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стопи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моћ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ермена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еукоци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класт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ша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град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ротич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врст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стан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иц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јо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набдевањ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рвљ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тва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ло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гранулацио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теокла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ктивн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ротичн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лакунар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азграђуј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168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рт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торич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о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два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востворе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иброз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о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реактивни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аложење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овостворе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ерифериј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паљења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6" descr="central_ossifying_fibroma-141C8C93BCF5550340A"/>
          <p:cNvPicPr/>
          <p:nvPr/>
        </p:nvPicPr>
        <p:blipFill>
          <a:blip r:embed="rId2"/>
          <a:stretch/>
        </p:blipFill>
        <p:spPr>
          <a:xfrm>
            <a:off x="2000160" y="4929120"/>
            <a:ext cx="2357640" cy="1538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ContempClinDent_2012_3_5_103_95117_f8"/>
          <p:cNvPicPr/>
          <p:nvPr/>
        </p:nvPicPr>
        <p:blipFill>
          <a:blip r:embed="rId3"/>
          <a:stretch/>
        </p:blipFill>
        <p:spPr>
          <a:xfrm>
            <a:off x="4786200" y="4929120"/>
            <a:ext cx="24289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28400" y="1356840"/>
            <a:ext cx="84294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оствор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о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л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биј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редиц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тпуност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ухв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ч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с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мење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а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чи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вара секвеста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кротич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азград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органск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амел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ва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тал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а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сп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гранич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д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б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пак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ир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нифест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иничк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еагу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с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ериостал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варање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ов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штано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кив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до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И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ПАТОГЕНЕЗА</a:t>
            </a:r>
            <a:r>
              <a:rPr b="1" lang="sr-Latn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ОСТЕОМИЈЕЛИТИ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72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аљ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е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фекц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тич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ируленциј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с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узроковач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вн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до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брамбен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наг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слабљ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брамбе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ем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рганиз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ешк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пшт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бољењ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ецифичним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уни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фекти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укопен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грожен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ст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ж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цијент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гиопатија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пр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јабетичар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ilos</cp:lastModifiedBy>
  <dcterms:modified xsi:type="dcterms:W3CDTF">2015-09-02T11:21:47Z</dcterms:modified>
  <cp:revision>748</cp:revision>
  <dc:subject/>
  <dc:title>Diapositiva 1</dc:title>
</cp:coreProperties>
</file>